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23.jpeg" ContentType="image/jpeg"/>
  <Override PartName="/ppt/media/image1.png" ContentType="image/png"/>
  <Override PartName="/ppt/media/image24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8D44-3AE3-4C6A-AB6B-0970D1E8B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25F0-14B6-45B9-A1C2-E4A45E96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EE8-CA63-43EA-949A-1B1E274E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90D-D5D3-417B-B0BB-0E9C2657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1798-416B-4741-A768-687F1960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929-9C48-4FA9-9F92-79A1BE81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E2D6-1152-462A-96B5-CCD78E87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A441-57BA-487B-ADE7-CA1EB675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5FE-6E6E-4DC4-A655-6BA1D0DB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EC84-3640-4B29-9FAF-053CFF1F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F672-8B55-45E8-9372-2C8AF343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F9BD-DA37-4ED9-B58B-8A162C3D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5451-4278-4967-A49B-D18003DC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29A-A134-41D5-803F-92569DF0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5A5-8831-4EC8-802F-7C441D8B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FC45-3811-45EE-BA66-B753F199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2036-05F1-4511-B33C-5D073D50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1A6A-3CE0-471D-8251-1256CBB1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8AD9F-AAA1-4D64-9CB9-2FF8985C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8AA6D-492E-4082-82DE-C26B83A6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CEE9-18E6-4A23-9504-73A27080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3A705-96E4-407F-94D1-7D1A0C4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14CA0-4FFC-43D6-B7D5-B696943C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5C175-954F-485B-AF49-EBA0104E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6D9-BD8F-425C-AA14-7118B31E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D5A3-D808-497F-A3FA-C676455A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8364B-219D-41A5-AB53-A1962E9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F33E-815B-44A1-95E9-F3B3F859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95276-BE42-4FBD-BB6A-D33FE11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E9784-9BDB-4294-935E-6FCE95BD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8567B-4128-4D52-986A-CE03FF05D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A67A5-DE9C-43AF-B18B-49DE532D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DCCF7-1D51-403F-85B5-88EA8A6E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6140-953E-4349-844A-F913121B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4EAD2-1E01-49D7-B20F-AF1DFEB3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8AE4-04E0-4BDD-BA42-56F9C81D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EC6A-70CB-47B2-8708-D2E3C20A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AA288-4C09-4182-B012-CA4C81F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5A05-ED8A-4E2C-9B80-B16B91E0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53FB-1A81-4604-A30F-52FD8C6E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BAC7-D246-4A5D-9FAF-A6A82780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77EE0-ABBC-46A7-A6A9-EEDA1E1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A35A1-4C0C-4365-9382-0C99EA85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6579-B02C-4B56-B078-FBE87DB8D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BB415-EE90-4631-BDA9-7B86AB10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0147E-FB92-40CA-8F7F-E32976ED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2E88-89F1-4CF2-B13D-0C67818F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5D9B-6934-4C3B-933F-B3B25C1C7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093F4-BC72-4131-BA9B-EA18E67B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795DD-29A5-47CA-8C48-394224F4B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11388-6667-4D4E-AEEC-5D21F852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13735-EC36-45F4-94E8-2B038F59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57E19-1011-485A-9FD6-F3F84A3C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DA41D-3100-464A-879C-5E985CEC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4C513-BA63-4E49-A187-BBDA64A5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45853-5D85-430D-B314-214C189C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A3641-5ADC-480A-841B-0E77189E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81DC-B716-4AD3-985D-B97D2888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A0C2F-B50E-4072-955D-AFA7FC4D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CCAE5-801F-46CB-9397-324C778A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B1B63-7386-4ECC-8DA1-860DB674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AACF7-91EE-49B9-9F45-FFCF33AF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9A1A2-5383-4B0E-B0B9-57D19BFE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B7F92-A038-45E8-A04F-97886BAA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7CBC-7B0E-4084-8626-37B12D5C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0951-6450-42AF-9C98-44EB6C79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E7651-0F4A-45AC-8B2B-58FEC0FA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EE8FE-DC1D-4EE1-B121-9C8AA37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53F3-31CD-4579-8FEE-10216586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9A0D1-195B-46E5-B281-3B644BC7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54C7-391F-4FF1-A74D-A3A2777D4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F479-C436-4AAA-AC05-3CF08FF2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9E41-9230-46CA-8F10-6E10F5D9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F292-DECF-4354-B6C9-7F16465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1880-FAE6-45BD-8ADA-D35824B4D6B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15F-EA8F-40CD-9836-A80D79C14F2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F868-D89A-4981-A3CD-60B68C37C15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176D-51D0-4CE1-BB93-1145C6C7D56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8C12-0E4E-4B95-8237-4DB32A15FFD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258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61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4113-7C2F-4743-9860-1E285D565B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ocities.org/buhsmsm/MendelianGenetics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google.rs/url?sa=i&amp;rct=j&amp;q=&amp;esrc=s&amp;source=images&amp;cd=&amp;cad=rja&amp;uact=8&amp;ved=0ahUKEwiKm5_218LTAhWBF5oKHftUB-UQjRwIBw&amp;url=https%3A%2F%2Fen.wikipedia.org%2Fwiki%2FChromosomal_translocation&amp;psig=AFQjCNHqfL3YVS8SLH06VIPkVsxyaN-ifA&amp;ust=1493315487034760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Rectangle 2" descr=""/>
          <p:cNvPicPr/>
          <p:nvPr/>
        </p:nvPicPr>
        <p:blipFill>
          <a:blip r:embed="rId1"/>
          <a:stretch/>
        </p:blipFill>
        <p:spPr>
          <a:xfrm>
            <a:off x="317520" y="1549440"/>
            <a:ext cx="850896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h1 - Филаделфија хромозом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Picture 3" descr="Trans_9_22"/>
          <p:cNvPicPr/>
          <p:nvPr/>
        </p:nvPicPr>
        <p:blipFill>
          <a:blip r:embed="rId1"/>
          <a:srcRect l="0" t="0" r="0" b="22831"/>
          <a:stretch/>
        </p:blipFill>
        <p:spPr>
          <a:xfrm>
            <a:off x="1692360" y="2205000"/>
            <a:ext cx="5759280" cy="340848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Робертсонове транслокациј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-центричн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(центромерне)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фузиј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о с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 акроцентричних хромозо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Учесталост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500 новорођени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 да буду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хомологе и хетеролог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(нехомологе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2" name="Picture 5" descr="the acrocentric chromosomes"/>
          <p:cNvPicPr/>
          <p:nvPr/>
        </p:nvPicPr>
        <p:blipFill>
          <a:blip r:embed="rId1"/>
          <a:stretch/>
        </p:blipFill>
        <p:spPr>
          <a:xfrm>
            <a:off x="4643280" y="1692360"/>
            <a:ext cx="4152960" cy="226692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43" name="Picture 7" descr="Image result for chromosome translocation images"/>
          <p:cNvPicPr/>
          <p:nvPr/>
        </p:nvPicPr>
        <p:blipFill>
          <a:blip r:embed="rId2"/>
          <a:stretch/>
        </p:blipFill>
        <p:spPr>
          <a:xfrm>
            <a:off x="4656240" y="4076640"/>
            <a:ext cx="39243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Хомологе </a:t>
            </a:r>
            <a:br>
              <a:rPr sz="4000"/>
            </a:br>
            <a:r>
              <a:rPr b="1" lang="sr-Latn-CS" sz="4000" spc="-1" strike="noStrike">
                <a:solidFill>
                  <a:srgbClr val="000000"/>
                </a:solidFill>
                <a:latin typeface="Arial"/>
                <a:ea typeface="Arial"/>
              </a:rPr>
              <a:t>Робертсонове транслок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93500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То су транслокације између два хомолога акроцентрична хромозом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најчешћа је 21q21q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4" descr="4"/>
          <p:cNvPicPr/>
          <p:nvPr/>
        </p:nvPicPr>
        <p:blipFill>
          <a:blip r:embed="rId1"/>
          <a:stretch/>
        </p:blipFill>
        <p:spPr>
          <a:xfrm>
            <a:off x="250920" y="3213000"/>
            <a:ext cx="4464000" cy="339084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47" name="Rectangle 6"/>
          <p:cNvSpPr/>
          <p:nvPr/>
        </p:nvSpPr>
        <p:spPr>
          <a:xfrm>
            <a:off x="5076720" y="3357720"/>
            <a:ext cx="3743280" cy="20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ма шансе да са здравим партнером добије здраво дете. Добија дете са тризомијом или спонтани побачај услед монозомије хромозома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443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Хетерологе </a:t>
            </a:r>
            <a:br>
              <a:rPr sz="3600"/>
            </a:b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Робертсонове транслокациј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ајчешћа је 14q21q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49" name="Picture 3" descr="image005"/>
          <p:cNvPicPr/>
          <p:nvPr/>
        </p:nvPicPr>
        <p:blipFill>
          <a:blip r:embed="rId1"/>
          <a:stretch/>
        </p:blipFill>
        <p:spPr>
          <a:xfrm>
            <a:off x="395280" y="3357720"/>
            <a:ext cx="3887640" cy="3024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50" name="Rectangle 5"/>
          <p:cNvSpPr/>
          <p:nvPr/>
        </p:nvSpPr>
        <p:spPr>
          <a:xfrm>
            <a:off x="4716360" y="3357720"/>
            <a:ext cx="4176720" cy="30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ма шансе (2/6) да са здравом особом добије здраво дете. 1/6 је шанса да добије потпуно нормално дете и 1/6 је шанса да добије мирног носиоца транслокације ( фенотипски нормалан, генотипски аберант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Робертсонова транслокација 14,21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2" name="Picture 3" descr="http://cursoenarm.net/UPTODATE/contents/images/f5/23/5494.myextj?title=Robertsonian+translocation"/>
          <p:cNvPicPr/>
          <p:nvPr/>
        </p:nvPicPr>
        <p:blipFill>
          <a:blip r:embed="rId1"/>
          <a:stretch/>
        </p:blipFill>
        <p:spPr>
          <a:xfrm>
            <a:off x="1258920" y="1773360"/>
            <a:ext cx="69120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  <a:ea typeface="Arial"/>
              </a:rPr>
              <a:t>Нереципрочне транслокације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лоцира се сегмент једног хромозома у други хромоз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Picture 8" descr="Image result for nonreciprocal translocation images"/>
          <p:cNvPicPr/>
          <p:nvPr/>
        </p:nvPicPr>
        <p:blipFill>
          <a:blip r:embed="rId1"/>
          <a:stretch/>
        </p:blipFill>
        <p:spPr>
          <a:xfrm>
            <a:off x="2340000" y="2924280"/>
            <a:ext cx="39434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58560" y="556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Нереципрочна транслокација инсерциј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934640"/>
            <a:ext cx="4835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нсерција 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стаје као последица појаве 2 прекида на једном и 1 прекида на другом хромозому,па се сегмент настао између два прекида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инсерту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 хромозом на коме је настао један прекид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8" name="Picture 5" descr="chr-insertion"/>
          <p:cNvPicPr/>
          <p:nvPr/>
        </p:nvPicPr>
        <p:blipFill>
          <a:blip r:embed="rId1"/>
          <a:stretch/>
        </p:blipFill>
        <p:spPr>
          <a:xfrm>
            <a:off x="5580000" y="2924280"/>
            <a:ext cx="3171960" cy="168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d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635040" y="1955880"/>
            <a:ext cx="7873920" cy="4076640"/>
          </a:xfrm>
          <a:prstGeom prst="rect">
            <a:avLst/>
          </a:prstGeom>
          <a:ln w="0">
            <a:noFill/>
          </a:ln>
        </p:spPr>
      </p:pic>
      <p:pic>
        <p:nvPicPr>
          <p:cNvPr id="360" name="Title 1" descr=""/>
          <p:cNvPicPr/>
          <p:nvPr/>
        </p:nvPicPr>
        <p:blipFill>
          <a:blip r:embed="rId2"/>
          <a:stretch/>
        </p:blipFill>
        <p:spPr>
          <a:xfrm>
            <a:off x="317520" y="736560"/>
            <a:ext cx="4559400" cy="11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6" descr=""/>
          <p:cNvPicPr/>
          <p:nvPr/>
        </p:nvPicPr>
        <p:blipFill>
          <a:blip r:embed="rId1"/>
          <a:stretch/>
        </p:blipFill>
        <p:spPr>
          <a:xfrm>
            <a:off x="114480" y="685800"/>
            <a:ext cx="883908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820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размена генетичког материјала између два нехомолога хромозо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Могу бит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Реципрочне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омозигот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терозигот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Робертсонове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омолог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теролог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sr-CS" sz="2400" spc="-1" strike="noStrike">
                <a:solidFill>
                  <a:srgbClr val="04617b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4617b"/>
                </a:solidFill>
                <a:latin typeface="Arial"/>
                <a:ea typeface="Arial"/>
              </a:rPr>
              <a:t>3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. Нереципрочне тран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15920" y="206064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редоследа гена у хромозому з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a 180</a:t>
            </a:r>
            <a:r>
              <a:rPr b="0" lang="sr-Latn-C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 услед два прекида у хромозому и окретања прекинутог дела за 180 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 D 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 G H 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 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 H </a:t>
            </a:r>
            <a:r>
              <a:rPr b="1" lang="sr-Latn-C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3" name="Picture 4" descr="http://www.meds.com/molmime/leukemia/facts/april_1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2060640"/>
            <a:ext cx="3166920" cy="3743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"/>
          <p:cNvSpPr/>
          <p:nvPr/>
        </p:nvSpPr>
        <p:spPr>
          <a:xfrm>
            <a:off x="-25560" y="37944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Е АБЕРАЦИЈЕ ХРОМОЗ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ИНВЕРЗ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обертсонова транслокац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ухвата акроцентричне хромозом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а) хомолог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б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нехомолога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хетеролога)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2484360" y="2276640"/>
            <a:ext cx="396072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492360" y="1700280"/>
            <a:ext cx="51120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Constantia"/>
              </a:rPr>
              <a:t>Механизам настанка Роберстонове транслокациј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7" name="Picture 2" descr="http://bio3400.nicerweb.com/Locked/media/ch08/08_24-translocation-Robertsonian.jpg"/>
          <p:cNvPicPr/>
          <p:nvPr/>
        </p:nvPicPr>
        <p:blipFill>
          <a:blip r:embed="rId1"/>
          <a:stretch/>
        </p:blipFill>
        <p:spPr>
          <a:xfrm>
            <a:off x="2340000" y="765000"/>
            <a:ext cx="3276720" cy="571500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68" name="Rectangle 4"/>
          <p:cNvSpPr/>
          <p:nvPr/>
        </p:nvSpPr>
        <p:spPr>
          <a:xfrm>
            <a:off x="755640" y="115920"/>
            <a:ext cx="7056360" cy="3603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ffffff"/>
                </a:solidFill>
                <a:latin typeface="Arial"/>
                <a:ea typeface="Arial"/>
              </a:rPr>
              <a:t>Механизам настанка Робертсонове транслок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Хомолога транслокација 21,21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0" name="Picture 5" descr="011f"/>
          <p:cNvPicPr/>
          <p:nvPr/>
        </p:nvPicPr>
        <p:blipFill>
          <a:blip r:embed="rId1"/>
          <a:stretch/>
        </p:blipFill>
        <p:spPr>
          <a:xfrm>
            <a:off x="2340000" y="1484280"/>
            <a:ext cx="5040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Транслокација 21,21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2" name="Picture 5" descr="imgpress?fit=1000,1000&amp;url=http%3A%2F%2Ffarm1"/>
          <p:cNvPicPr/>
          <p:nvPr/>
        </p:nvPicPr>
        <p:blipFill>
          <a:blip r:embed="rId1"/>
          <a:srcRect l="10424" t="4951" r="4180" b="3256"/>
          <a:stretch/>
        </p:blipFill>
        <p:spPr>
          <a:xfrm>
            <a:off x="1547640" y="2133720"/>
            <a:ext cx="59040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Heterologa Robertsonova translokacija"/>
          <p:cNvPicPr/>
          <p:nvPr/>
        </p:nvPicPr>
        <p:blipFill>
          <a:blip r:embed="rId1"/>
          <a:stretch/>
        </p:blipFill>
        <p:spPr>
          <a:xfrm>
            <a:off x="1835280" y="907920"/>
            <a:ext cx="585612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Calibri"/>
              </a:rPr>
              <a:t>Транлокација хром. 15 и 2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5" name="Picture 2" descr="http://bvs.sld.cu/revistas/rcgc/v4n2/rcgc-web-images/f11010210.jpg"/>
          <p:cNvPicPr/>
          <p:nvPr/>
        </p:nvPicPr>
        <p:blipFill>
          <a:blip r:embed="rId1"/>
          <a:stretch/>
        </p:blipFill>
        <p:spPr>
          <a:xfrm>
            <a:off x="857160" y="1928880"/>
            <a:ext cx="7658280" cy="4214880"/>
          </a:xfrm>
          <a:prstGeom prst="rect">
            <a:avLst/>
          </a:prstGeom>
          <a:ln w="0">
            <a:noFill/>
          </a:ln>
        </p:spPr>
      </p:pic>
      <p:sp>
        <p:nvSpPr>
          <p:cNvPr id="376" name="Left Arrow 4"/>
          <p:cNvSpPr/>
          <p:nvPr/>
        </p:nvSpPr>
        <p:spPr>
          <a:xfrm>
            <a:off x="3786120" y="4572000"/>
            <a:ext cx="500040" cy="403200"/>
          </a:xfrm>
          <a:prstGeom prst="leftArrow">
            <a:avLst>
              <a:gd name="adj1" fmla="val 60935"/>
              <a:gd name="adj2" fmla="val 50003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Up Arrow 6"/>
          <p:cNvSpPr/>
          <p:nvPr/>
        </p:nvSpPr>
        <p:spPr>
          <a:xfrm>
            <a:off x="4929120" y="5929200"/>
            <a:ext cx="357120" cy="428760"/>
          </a:xfrm>
          <a:prstGeom prst="upArrow">
            <a:avLst>
              <a:gd name="adj1" fmla="val 50000"/>
              <a:gd name="adj2" fmla="val 50025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500" spc="-1" strike="noStrike">
                <a:solidFill>
                  <a:srgbClr val="000000"/>
                </a:solidFill>
                <a:latin typeface="Calibri"/>
              </a:rPr>
              <a:t>Хетеролога Робертсонова тран</a:t>
            </a:r>
            <a:r>
              <a:rPr b="1" lang="sr-RS" sz="45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sr-CS" sz="4500" spc="-1" strike="noStrike">
                <a:solidFill>
                  <a:srgbClr val="000000"/>
                </a:solidFill>
                <a:latin typeface="Calibri"/>
              </a:rPr>
              <a:t>локација 14,21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79" name="Picture 5" descr="balanced-trans-14-21"/>
          <p:cNvPicPr/>
          <p:nvPr/>
        </p:nvPicPr>
        <p:blipFill>
          <a:blip r:embed="rId1"/>
          <a:stretch/>
        </p:blipFill>
        <p:spPr>
          <a:xfrm>
            <a:off x="900000" y="1844640"/>
            <a:ext cx="7417080" cy="47242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Израда проблемских задатака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2124000" y="2565360"/>
            <a:ext cx="1656000" cy="13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859280" y="2565360"/>
            <a:ext cx="165744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  <a:ea typeface="Arial"/>
              </a:rPr>
              <a:t>Врсте инверз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6" name="Picture 3" descr="parainv"/>
          <p:cNvPicPr/>
          <p:nvPr/>
        </p:nvPicPr>
        <p:blipFill>
          <a:blip r:embed="rId1"/>
          <a:stretch/>
        </p:blipFill>
        <p:spPr>
          <a:xfrm>
            <a:off x="4572000" y="1989000"/>
            <a:ext cx="4032360" cy="44643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pic>
        <p:nvPicPr>
          <p:cNvPr id="317" name="Picture 4" descr="periinv"/>
          <p:cNvPicPr/>
          <p:nvPr/>
        </p:nvPicPr>
        <p:blipFill>
          <a:blip r:embed="rId2"/>
          <a:stretch/>
        </p:blipFill>
        <p:spPr>
          <a:xfrm>
            <a:off x="324000" y="2019240"/>
            <a:ext cx="3767040" cy="4838760"/>
          </a:xfrm>
          <a:prstGeom prst="rect">
            <a:avLst/>
          </a:prstGeom>
          <a:ln w="9360">
            <a:solidFill>
              <a:srgbClr val="0f6fc6"/>
            </a:solidFill>
            <a:miter/>
          </a:ln>
        </p:spPr>
      </p:pic>
      <p:sp>
        <p:nvSpPr>
          <p:cNvPr id="318" name="Rectangle 6"/>
          <p:cNvSpPr/>
          <p:nvPr/>
        </p:nvSpPr>
        <p:spPr>
          <a:xfrm>
            <a:off x="324000" y="5943600"/>
            <a:ext cx="377964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ерицентрична инверзија-инверзиона петља обухвата центро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4572000" y="5943600"/>
            <a:ext cx="403236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арацентрична инверзија-инверзиона петља не обухвата центро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и ризик за потомство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0" y="1773360"/>
            <a:ext cx="45720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нтрична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нв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рзиј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фенотипски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мално дете носилац инверз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 фенотипски и генотипски абнормално дет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680000" y="1699920"/>
            <a:ext cx="446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а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ентрична инв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ерзиј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нормално дет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генотипски  абормално дете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а фенотиспски нормално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 гамет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нема способност да врши оплођење или даје потомска који има велико оштећење па завршава као спонтани побачај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Е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БЕРАЦИЈЕ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А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ТРАНСПОЗИ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8360" y="3500280"/>
            <a:ext cx="822960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Премештање групе гена са једног места на хромозому на друго место, у оригиналној позиц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    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 </a:t>
            </a:r>
            <a:r>
              <a:rPr b="1" lang="en-U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 D E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 GH 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</a:t>
            </a:r>
            <a:r>
              <a:rPr b="1" lang="sr-Latn-C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A B F G H </a:t>
            </a:r>
            <a:r>
              <a:rPr b="1" lang="sr-Latn-CS" sz="26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 D 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Right Arrow 5"/>
          <p:cNvSpPr/>
          <p:nvPr/>
        </p:nvSpPr>
        <p:spPr>
          <a:xfrm>
            <a:off x="4067280" y="5300640"/>
            <a:ext cx="718920" cy="360360"/>
          </a:xfrm>
          <a:prstGeom prst="rightArrow">
            <a:avLst>
              <a:gd name="adj1" fmla="val 34370"/>
              <a:gd name="adj2" fmla="val 49986"/>
            </a:avLst>
          </a:prstGeom>
          <a:solidFill>
            <a:srgbClr val="009dd9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9528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змена генетичког материјала између два </a:t>
            </a:r>
            <a:r>
              <a:rPr b="0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нехомолог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хромоз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јава да се један хромозом или један његов део транслоцира на друг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 да буд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Реципрочн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Робертсонов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ff0000"/>
                </a:solidFill>
                <a:latin typeface="Arial"/>
                <a:ea typeface="Arial"/>
              </a:rPr>
              <a:t>Нереципрочне транслокације 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8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НЕ АБЕРАЦИЈЕ ХРОМОЗОМА</a:t>
            </a:r>
            <a:br>
              <a:rPr sz="3600"/>
            </a:br>
            <a:r>
              <a:rPr b="1" lang="sr-C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ТРАНСЛОКАЦИЈ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еципрочне тра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локациј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хомозиготне и хетерозиготне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5" descr="Image result for chromosome translocation images">
            <a:hlinkClick r:id="rId1"/>
          </p:cNvPr>
          <p:cNvPicPr/>
          <p:nvPr/>
        </p:nvPicPr>
        <p:blipFill>
          <a:blip r:embed="rId2"/>
          <a:srcRect l="0" t="14023" r="0" b="0"/>
          <a:stretch/>
        </p:blipFill>
        <p:spPr>
          <a:xfrm>
            <a:off x="2303640" y="2313000"/>
            <a:ext cx="4295520" cy="28749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"/>
          <p:cNvSpPr/>
          <p:nvPr/>
        </p:nvSpPr>
        <p:spPr>
          <a:xfrm>
            <a:off x="1403280" y="5300640"/>
            <a:ext cx="6121440" cy="936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етерозиготна реципрочна трансло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578800" cy="1587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У профази мејозе 1 хромозоми образују крстасту формацију (квадривалент)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Picture 2" descr="Image result for chromosome translocation images"/>
          <p:cNvPicPr/>
          <p:nvPr/>
        </p:nvPicPr>
        <p:blipFill>
          <a:blip r:embed="rId1"/>
          <a:srcRect l="0" t="0" r="18303" b="0"/>
          <a:stretch/>
        </p:blipFill>
        <p:spPr>
          <a:xfrm>
            <a:off x="250920" y="2460600"/>
            <a:ext cx="5587920" cy="18288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3"/>
          <p:cNvSpPr/>
          <p:nvPr/>
        </p:nvSpPr>
        <p:spPr>
          <a:xfrm>
            <a:off x="190440" y="4437000"/>
            <a:ext cx="51735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У анафази мејозе 1 хромозоми се раздвајају  и одлазе на супротне полове.  Раздвајање може да буде 2:2 или 3: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Related image"/>
          <p:cNvPicPr/>
          <p:nvPr/>
        </p:nvPicPr>
        <p:blipFill>
          <a:blip r:embed="rId2"/>
          <a:stretch/>
        </p:blipFill>
        <p:spPr>
          <a:xfrm>
            <a:off x="6300720" y="2133720"/>
            <a:ext cx="25192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Генетички ризик за потомство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Теоретс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50% потомака са небалансираном транслокацијо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носилаца балансиране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25% генотипски и фенотипски нормал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акса је показ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7% генотипски и фенотипски аберантних ако је мајка носилац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3% аберантних ако је отац носилац транслокациј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22:15:56Z</dcterms:created>
  <dc:creator>Olivera Milosevic-Djordjevic</dc:creator>
  <dc:description/>
  <dc:language>en-US</dc:language>
  <cp:lastModifiedBy>Microsoft Office User</cp:lastModifiedBy>
  <dcterms:modified xsi:type="dcterms:W3CDTF">2022-01-25T17:55:08Z</dcterms:modified>
  <cp:revision>58</cp:revision>
  <dc:subject/>
  <dc:title>Inverzije</dc:title>
</cp:coreProperties>
</file>